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506-5680-41CC-8B27-F34A3AB5D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009C-017A-44C1-89F1-0B6414B2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C0CE-70EA-489F-B144-DD650FB8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114-9A26-44D5-8008-437E29A24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D1CE-6A14-46FA-BA51-799D5F9A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D15F-5145-4AB5-A3C6-653E7793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8546-9C6F-4FA3-A2CB-AD16E3C7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3C07D-E2A1-4271-84F3-995DF0AA7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752C-4B83-4F13-8152-F0AA8185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3250-7B9C-431E-9AE0-82DB04B0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BC0B-2798-4788-96B7-14DD20596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7713-E1B9-4820-9A6C-7828624FF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0B365-1128-4B5D-B7C8-E203698F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B2EB-7D1C-4F47-9ACD-F7524730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A558-2961-469F-9DF5-58C2A89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B6F6-D774-4D28-A416-9BF0CBC22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4319F-2917-4868-9ED8-4354C9E3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239-68D3-4521-9F66-3BEF6A1E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E951-70D8-4752-B7A1-F876D67D1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F109-9A2A-4377-A61E-C2373F51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424C-2436-42AF-B9A7-3FEC8FE3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7F4D-6845-47B0-8D2D-6C950172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60ED-4CE7-4AD0-91EB-374BADBA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677-D4EF-4DCC-8227-4C2CB17C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4A44-87B2-4307-A207-0B223A1B4F06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4B4E-AB79-4D00-9A76-35A886090EED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384360" cy="2328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5796000" y="260280"/>
            <a:ext cx="3168720" cy="21114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2916360" y="836640"/>
            <a:ext cx="3313080" cy="22064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324000" y="4292640"/>
            <a:ext cx="3168360" cy="21096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5"/>
          <a:stretch/>
        </p:blipFill>
        <p:spPr>
          <a:xfrm>
            <a:off x="5219640" y="4292640"/>
            <a:ext cx="3168720" cy="2109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280" y="3068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000000"/>
                </a:solidFill>
                <a:latin typeface="Arial"/>
              </a:rPr>
              <a:t>Social codes and the behaviour in a foreign count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liv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432240" cy="30592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2590920" cy="24242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4284720" y="3284640"/>
            <a:ext cx="2465280" cy="32828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7020000" y="5084640"/>
            <a:ext cx="180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throom slip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940360" y="5516640"/>
            <a:ext cx="1008000" cy="217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ake a bath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2592360" cy="21859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392360" cy="2144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332000" y="4005360"/>
            <a:ext cx="2792160" cy="1954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5651640" y="3500280"/>
            <a:ext cx="2077920" cy="31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ns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7200" y="240984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648320" y="2489040"/>
            <a:ext cx="4038480" cy="28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asking for the wa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word “n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’t want to recognize that they don’t know the answer </a:t>
            </a:r>
            <a:r>
              <a:rPr b="0" lang="en-GB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safe their 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when you are il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4114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blow your no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27640" y="2133720"/>
            <a:ext cx="4114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nuff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03280" y="1844640"/>
            <a:ext cx="1295640" cy="1222560"/>
          </a:xfrm>
          <a:prstGeom prst="noSmoking">
            <a:avLst>
              <a:gd name="adj" fmla="val 125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284720" y="4292640"/>
            <a:ext cx="2808360" cy="18702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900000" y="4292640"/>
            <a:ext cx="2808360" cy="18702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 flipV="1">
            <a:off x="2124000" y="32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5651640" y="3213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on a business trip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608720" cy="3068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242100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gr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business car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316400" cy="28652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2920" y="2205000"/>
            <a:ext cx="403884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ake your card with 2 hands on the upper corn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o b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’t put it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sour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japan-infos.de/japanreise/verhaltensregeln-japan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shoubu.de/jap_regeln.htm#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de.wikipedia.org/wiki/Soziales_Verhalten_in_Japan#Gef.C3.BCh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de.wikipedia.org/wiki/Kultur_Jap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18394"/>
          <a:stretch/>
        </p:blipFill>
        <p:spPr>
          <a:xfrm>
            <a:off x="611280" y="476280"/>
            <a:ext cx="4032000" cy="2635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40360" y="2781360"/>
            <a:ext cx="4392360" cy="2932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11280" y="3357720"/>
            <a:ext cx="29527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different gree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de of behaviou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ces if you don’t follow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the respec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wing of re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nguistic re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hysical re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how to behave in special situa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ve a b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k for the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you’re 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on a business tr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choice of the s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790560" y="223920"/>
            <a:ext cx="7473240" cy="65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ru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5280" y="3068640"/>
            <a:ext cx="40384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„</a:t>
            </a: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normal“ holiday tr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 so b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Japanese understand &amp; consider 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2920" y="2997360"/>
            <a:ext cx="403884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business tr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ve to now all the ru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 make a mistake they won’t show you understa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5640" y="1916280"/>
            <a:ext cx="7924680" cy="63972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if you don’t follow the rules you’ll</a:t>
            </a:r>
            <a:br>
              <a:rPr sz="2800"/>
            </a:br>
            <a:r>
              <a:rPr b="1" lang="en-GB" sz="2800" spc="-1" strike="noStrike">
                <a:solidFill>
                  <a:srgbClr val="330066"/>
                </a:solidFill>
                <a:latin typeface="Arial"/>
              </a:rPr>
              <a:t>lose your 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9079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02200" y="167760"/>
            <a:ext cx="7453080" cy="83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the respe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showing of resp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son with “higher level” is shown the maximum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f respect. Those with a “lower level” have to ac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him like he’s a 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n’t allowed to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def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o safe his 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ve to help him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al hon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linguistic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re are many prefixes which show the re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cha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for children or for women when it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es from a 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an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polit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used for persons in the same age,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lleagues in th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sensei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the most polit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- used for the persons with the highe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vel, important person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291520" cy="53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physical re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show the respect in a physical way they bo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to greet so., to say goodbye and thank you and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sk for s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°: to greet a good friend or so. with a lower leve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e.g. a head his employe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5°: to greet collea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the same lev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0°: polite, to ask for s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5°: really polite, to apologiz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g mistake, or greet your bos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08720" y="3068640"/>
            <a:ext cx="348588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how to behave in special situ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e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ave a bat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k for the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f you’re i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33996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330066"/>
                </a:solidFill>
                <a:latin typeface="Arial"/>
              </a:rPr>
              <a:t>mea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050920" y="2781360"/>
            <a:ext cx="4753080" cy="3564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724360" y="549360"/>
            <a:ext cx="2152800" cy="21524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55640" y="333360"/>
            <a:ext cx="1616040" cy="2735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00720" y="191628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hopsti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21:42:30Z</dcterms:created>
  <dc:creator>Patrick</dc:creator>
  <dc:description/>
  <dc:language>en-US</dc:language>
  <cp:lastModifiedBy>Patrick</cp:lastModifiedBy>
  <dcterms:modified xsi:type="dcterms:W3CDTF">2010-12-02T02:06:44Z</dcterms:modified>
  <cp:revision>5</cp:revision>
  <dc:subject/>
  <dc:title>Social codes and the behaviour in foreign countries</dc:title>
</cp:coreProperties>
</file>